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6D4A-DC46-4EC3-BB6E-887450258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82BA-B6F1-45DF-880F-D2C707C7F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36F4-40E7-4665-BAE1-26ED0A404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9DCE-8435-47EF-BFD2-DA2D7630B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0320F-FE59-410C-94C8-0CA52A9B7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4F0EB-7B5C-4F8B-B67D-787794A2C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DDD2B-E2D6-47D3-965D-EC751B873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E2F20-98B2-4266-BBA5-773EBC036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66F02-5590-401E-B384-184882D5D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41C1B-2130-406B-B393-D460A9F7E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F6080-3E28-44ED-BB04-01323C70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F214-34F8-4E15-903F-BDD20D706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1D85E-8232-4F7B-8383-03F1259B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841C8-3935-465E-840A-76488D6A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B7189-949F-4A8C-969C-68A067E42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0CAB2-6659-47F5-BC26-7B494D02E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1F6C3-69FB-48EB-B4E9-501A3302B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2C29A-1C2A-4D00-AAAB-07451DB2D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5BD0A-C937-460E-ADE2-CC68A0BE0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11297-644A-4842-91AE-CD7EB1CB4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545C0-5590-4548-8FDE-DACAC10CF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3519C-077D-44C8-9EAB-521D3605F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315D-5B86-4C14-AC47-744BB50D0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03D11-CE2E-459A-8451-D1C21C768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815A5-16D3-4F1D-8CC0-3B337123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BFDA5-1D1B-4455-9FDD-1CBAEFC9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25F9A-DCCD-4B67-9DBC-C0667E1F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046AD-2682-423D-8940-F52358234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FCECA-47CF-48AA-B81B-DEA086A38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8291E-7A9F-4AAF-B9EE-2FAD726BB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8D59F-8362-4B6F-BA39-7C67BF73D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FE252-261D-4CD3-B838-5761207F7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7DA22-8CCF-4D2D-A1BB-BA9F404AD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CF2A-4D31-4F11-8491-C23608889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79D2C-9228-46EE-9CE4-D31A00CD9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A4634-96B6-4727-A40B-9F67649B7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81593-85B6-46CE-81B1-07734C0C0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C0E31-0DC2-4908-AC93-0D2613C7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4A74B-DFE3-45FE-954B-9609E4AE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329AC-9A9A-4788-ACBE-0BD49E8B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64D79-BF39-4323-B2E6-1433FB0D0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68162-2F34-4C0E-AFDC-99A91D4F7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822A9-053A-4457-A476-A4370F885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1117F-7293-4559-B97B-0134B971F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8814-6AA2-4C4A-9B83-A8A90202F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31362-E85E-44C2-BE10-75845790D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1FB0A-851F-4011-9B90-FA2E31715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04B4C-BC37-496A-B621-92EC08C8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B8EE5-E007-4D47-856F-37D9042E0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413F8-0C97-48DC-979C-B4FF4DB78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48285-2EAB-41ED-B874-1BE39E38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BECB8-240F-499D-B2F3-D5678BF7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7EF7D-4AE2-4BF7-859D-BC61C3E2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6FFE4-B9B1-4A8B-A95F-FE3A35011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CA7DC-0CB9-408C-A758-B0D370475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A709-8974-46A2-8833-E1A102487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9DBD4-2406-4F27-B59F-8A82B1EE1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99E0-B89C-472A-AC65-BDA350AD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0F5C-9103-43AE-BBB0-460EAB2E5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A173-0964-4F1F-8A1E-7309B9C1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4417C-C3B6-4985-8D4F-D9B7137AD718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2DC26-3309-4B73-80B1-EC519A12B1F2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40CDF-97B9-4EF5-970C-EEA9D93B58BA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76E52-4703-4FCB-98C7-B3E3D532A506}" type="slidenum">
              <a:rPr b="0" lang="en-U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C0AB1-EF14-4A77-8FF1-4EF3ED88F70A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2"/>
          <a:stretch/>
        </p:blipFill>
        <p:spPr>
          <a:xfrm>
            <a:off x="3359160" y="530280"/>
            <a:ext cx="552924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Introduction to Game Design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Title 1" descr=""/>
          <p:cNvPicPr/>
          <p:nvPr/>
        </p:nvPicPr>
        <p:blipFill>
          <a:blip r:embed="rId2"/>
          <a:stretch/>
        </p:blipFill>
        <p:spPr>
          <a:xfrm>
            <a:off x="3359160" y="530280"/>
            <a:ext cx="5529240" cy="287820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onclusion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Rectangle 2" descr=""/>
          <p:cNvPicPr/>
          <p:nvPr/>
        </p:nvPicPr>
        <p:blipFill>
          <a:blip r:embed="rId1"/>
          <a:stretch/>
        </p:blipFill>
        <p:spPr>
          <a:xfrm>
            <a:off x="-244440" y="268200"/>
            <a:ext cx="8480520" cy="115884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4"/>
          <p:cNvSpPr/>
          <p:nvPr/>
        </p:nvSpPr>
        <p:spPr>
          <a:xfrm>
            <a:off x="609480" y="167652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NGR-TS-3: The students will develop an understanding of how humans interact with sys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Rectangle 2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) Operate technological system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D) Design technological system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4"/>
          <p:cNvSpPr/>
          <p:nvPr/>
        </p:nvSpPr>
        <p:spPr>
          <a:xfrm>
            <a:off x="838080" y="182880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What is a conditional statem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onditional Statemen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Variabl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xtens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If, Then, Else statements will provide a foundation for efficient planning and design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If, Then statements will provide a foundation for efficient planning and design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6c6c6c"/>
                </a:solidFill>
                <a:latin typeface="Trebuchet MS"/>
              </a:rPr>
              <a:t>If x=3, then x+4=7 or if salt is added to water, then the salt will dissolve.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6c6c6c"/>
                </a:solidFill>
                <a:latin typeface="Trebuchet MS"/>
              </a:rPr>
              <a:t>If the alarm goes of at six, then I get out of bed.</a:t>
            </a:r>
            <a:endParaRPr b="0" lang="en-US" sz="25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6c6c6c"/>
                </a:solidFill>
                <a:latin typeface="Trebuchet MS"/>
              </a:rPr>
              <a:t>If mom makes breakfast, then I sit down and eat it.</a:t>
            </a:r>
            <a:endParaRPr b="0" lang="en-US" sz="25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6c6c6c"/>
                </a:solidFill>
                <a:latin typeface="Trebuchet MS"/>
              </a:rPr>
              <a:t>If I miss the bus, then I must walk to school.</a:t>
            </a:r>
            <a:endParaRPr b="0" lang="en-US" sz="2500" spc="-1" strike="noStrike">
              <a:solidFill>
                <a:srgbClr val="6c6c6c"/>
              </a:solidFill>
              <a:latin typeface="Trebuchet MS"/>
            </a:endParaRPr>
          </a:p>
        </p:txBody>
      </p:sp>
      <p:sp>
        <p:nvSpPr>
          <p:cNvPr id="234" name="TextBox 3"/>
          <p:cNvSpPr/>
          <p:nvPr/>
        </p:nvSpPr>
        <p:spPr>
          <a:xfrm>
            <a:off x="1486080" y="6488280"/>
            <a:ext cx="468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X = 3, alarm goes of at six, etc,is a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Title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If, Then, Else statements will provide a foundation for efficient planning and design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6c6c6c"/>
                </a:solidFill>
                <a:latin typeface="Trebuchet MS"/>
              </a:rPr>
              <a:t>If the alarm goes of at six, then I get out of bed, else I stay in bed.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6c6c6c"/>
                </a:solidFill>
                <a:latin typeface="Trebuchet MS"/>
              </a:rPr>
              <a:t>If mom makes breakfast, then I sit down and eat it, else I starve until lunch.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6c6c6c"/>
                </a:solidFill>
                <a:latin typeface="Trebuchet MS"/>
              </a:rPr>
              <a:t>If I miss the bus, then I must walk to school, else I get to ride the bus to school.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  <p:sp>
        <p:nvSpPr>
          <p:cNvPr id="237" name="TextBox 3"/>
          <p:cNvSpPr/>
          <p:nvPr/>
        </p:nvSpPr>
        <p:spPr>
          <a:xfrm>
            <a:off x="1006200" y="6172200"/>
            <a:ext cx="627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**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Else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s an 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alternate to the condition, not just an oppo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4"/>
          <p:cNvSpPr/>
          <p:nvPr/>
        </p:nvSpPr>
        <p:spPr>
          <a:xfrm>
            <a:off x="838080" y="182880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What is a conditional statem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6T14:54:03Z</dcterms:created>
  <dc:creator>user</dc:creator>
  <dc:description/>
  <dc:language>en-US</dc:language>
  <cp:lastModifiedBy>GSCS</cp:lastModifiedBy>
  <dcterms:modified xsi:type="dcterms:W3CDTF">2012-05-10T14:31:29Z</dcterms:modified>
  <cp:revision>5</cp:revision>
  <dc:subject/>
  <dc:title>Conditional Statements</dc:title>
</cp:coreProperties>
</file>